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011-0AC9-49BD-AB38-23B7AFD1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D43-B007-469C-9139-27516654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032-522A-4E64-AA71-5B6063A5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B64-BA7B-4D87-9B0B-82A36E7A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298-537C-4AEE-845B-1287AF0D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D77-966A-415F-A362-08DC75F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ED8-16C0-49AA-9271-AAED0441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2DA-823E-43EF-8D32-B4F8487D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5DF-14F1-4384-BA1C-8D68C9FF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74F-95F2-44AF-8C1C-B5238910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60E-8027-48BC-A362-70501D5F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229-5532-437A-A7FB-CE06B38D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CAF-F360-4001-9112-FF4539AD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oon 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4857480" cy="6476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9080" y="1106640"/>
            <a:ext cx="352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own sever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is cartoon. (What do you se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ke sever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What do you think happen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rite a caption for the cartoon. (What is the man say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oon 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4857480" cy="647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080" y="1106640"/>
            <a:ext cx="3520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Ca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all the computations, theoretical scribblings, and lab equipment, Norm… Yes, curiosity killed these ca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23:45Z</dcterms:created>
  <dc:creator>Sussex County Public Schools</dc:creator>
  <dc:description/>
  <dc:language>en-US</dc:language>
  <cp:lastModifiedBy>Sussex County Public Schools</cp:lastModifiedBy>
  <dcterms:modified xsi:type="dcterms:W3CDTF">2005-09-08T12:45:35Z</dcterms:modified>
  <cp:revision>2</cp:revision>
  <dc:subject/>
  <dc:title>Cartoon Warm Up</dc:title>
</cp:coreProperties>
</file>